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E7C-2474-4B28-B405-7E443BAD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560-B3B5-492E-B1CB-90A93397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C99-19AD-4AA8-95FA-3A204A44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A04-3B3D-4B53-8B21-59649BEE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8BE-A5AD-4F35-BEF7-0E06E50A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828-89CE-41A7-8A98-B0E1A5EC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9D8-0D7C-4CF7-8F50-8C308EC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8ED-8428-4A16-91FD-81E269F9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07D-B5FD-466F-853D-81F5B94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397-2842-4389-868A-DED51D9B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B05-5279-4CB7-B1A6-7C6B70B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872-6664-46E4-A9A8-542A70D1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A2F-D82C-4CE2-B26D-6380D64E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rbanlegends.about.com/library/n_saddam_capture3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topics.cnn.com/topics/Iraq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23720" y="5714640"/>
            <a:ext cx="579132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an AND 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IR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nytimes.com/2005/08/16/international/middleeast/16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geography.about.com/b/2007/05/08/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life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expectancy-in-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https://www.cia.gov/library/publications/the-world-factbook/print/iz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worldinfozone.com/country.php?country=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54100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ocation: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andforms: desert, Some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ater systems: U.S., some mar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Natural Resources: Oil,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limate: Dry, Hot, and Hu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ildlife: Bugs, Birds, and Sn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4816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ik Humam Hamoudi, chairman of the constitutional commit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i Izara al-Majoun of the United Iraqi Alli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990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expecta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=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= 6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133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= 28,221,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apture of Saddam Husse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History and current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3703680"/>
            <a:ext cx="44197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ometime in 2003 we invaded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ecember 13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2003: Saddams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438280"/>
            <a:ext cx="4419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AGHDAD, Iraq (CNN) -- A roadside bomb attack on Monday killed two U.S. soldiers in Baghdad, the U.S. military sai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Another soldier was wounded in the attack and taken to a combat support hospital, according to military spokesman Lt. David Russ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e deaths follow an incident Saturday in which a U.S. soldier died and two others were injured when their vehicle rolled over at a forward operating base near Balad, north of Baghdad, Russell sa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July marked the lowest monthly toll of the war, with 11 U.S. troop deaths -- six killed in hostilities and five dying from causes not related to combat, according to a CNN count of figures released by the Pentag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With the three deaths in August, 4,130 U.S. military personnel have died since th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raq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 war began in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143000"/>
            <a:ext cx="228600" cy="12193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Economy in Ir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ndustry: Oil an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ajor Exports: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urrency: D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Clothes: they were same clothes as us just some aren’t our brand like hollister. Some women and men are fully covered in 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Foods: Soups and stews are prepared with vegetables and meat. Beef, lamb, poultry, and fish are eaten with rice and vegetables: aubergines, beans, chickpeas, lentils, okra, onions, peppers, potatoes and tomato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 c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anguage: Arabic is the main language. Kurdish is the official language in the Kurdish regions of Iraq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Religion: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rchitecture/Building styles: Shanas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ourist Attractions: Saddams hiding place, since capture this place is bang’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istorical Places: The Umayyad Mosque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he first ever in the city, built in 640 AD by Utba bin Farqad Al-Salami after he conquered Mosul in the reign of Caliph Omar ibn Al-Khattab. The only part still extant is the remarkably elaborate brickwork 52 m high minaret that leans like the Tower of Pisa, called Al-Hadba (The Humped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0:05Z</dcterms:created>
  <dc:creator>ethanrlawson</dc:creator>
  <dc:description/>
  <dc:language>en-US</dc:language>
  <cp:lastModifiedBy>ethanrlawson</cp:lastModifiedBy>
  <dcterms:modified xsi:type="dcterms:W3CDTF">2009-03-04T16:22:16Z</dcterms:modified>
  <cp:revision>8</cp:revision>
  <dc:subject/>
  <dc:title>Ethan AND Andy</dc:title>
</cp:coreProperties>
</file>